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4E43-DF86-4A36-AF58-027EA39EE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35D4-03E5-4ECB-BB9B-CBC77A178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D785-B5FA-4687-8C84-E8EBC0612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ED3F-F798-4F10-8B68-D5451B04E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562B-1D0C-4297-B2CF-339506962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CDA6-E9A6-4B94-BF82-81F338885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CD0D-F4AC-4370-A9B6-258D48EF9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7143-1FEA-4C06-A659-F9DA5612E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7270-45E8-45CE-957F-B7A5AE536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FE0C-21E5-4E2E-928A-CCE3C87A7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3224-18CE-4E76-BA66-F6308EE3C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FD7B-DF7A-4511-93F3-9B460207D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9D0F1-1002-408F-88D2-3F14089AFE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hyperlink" Target="file:///C:/Users/&#1041;&#1086;&#1088;&#1080;&#1089;/Desktop/www.shkola-abv.ru" TargetMode="External"/><Relationship Id="rId4" Type="http://schemas.openxmlformats.org/officeDocument/2006/relationships/hyperlink" Target="file:///C:/Users/&#1041;&#1086;&#1088;&#1080;&#1089;/Desktop/www.shkola-abv.ru" TargetMode="External"/><Relationship Id="rId5" Type="http://schemas.openxmlformats.org/officeDocument/2006/relationships/hyperlink" Target="file:///C:/Users/&#1041;&#1086;&#1088;&#1080;&#1089;/Desktop/www.shkola-abv.ru" TargetMode="External"/><Relationship Id="rId6" Type="http://schemas.openxmlformats.org/officeDocument/2006/relationships/hyperlink" Target="file:///C:/Users/&#1041;&#1086;&#1088;&#1080;&#1089;/Desktop/www.shkola-abv.ru" TargetMode="External"/><Relationship Id="rId7" Type="http://schemas.openxmlformats.org/officeDocument/2006/relationships/hyperlink" Target="file:///C:/Users/&#1041;&#1086;&#1088;&#1080;&#1089;/Desktop/www.shkola-abv.ru" TargetMode="External"/><Relationship Id="rId8" Type="http://schemas.openxmlformats.org/officeDocument/2006/relationships/hyperlink" Target="file:///C:/Users/&#1041;&#1086;&#1088;&#1080;&#1089;/Desktop/www.shkola-abv.ru" TargetMode="External"/><Relationship Id="rId9" Type="http://schemas.openxmlformats.org/officeDocument/2006/relationships/hyperlink" Target="file:///C:/Users/&#1041;&#1086;&#1088;&#1080;&#1089;/Desktop/www.shkola-abv.ru" TargetMode="External"/><Relationship Id="rId10" Type="http://schemas.openxmlformats.org/officeDocument/2006/relationships/hyperlink" Target="https://vk.com/shkola_abv" TargetMode="External"/><Relationship Id="rId11" Type="http://schemas.openxmlformats.org/officeDocument/2006/relationships/hyperlink" Target="https://vk.com/shkola_abv" TargetMode="External"/><Relationship Id="rId12" Type="http://schemas.openxmlformats.org/officeDocument/2006/relationships/hyperlink" Target="https://vk.com/shkola_abv" TargetMode="External"/><Relationship Id="rId13" Type="http://schemas.openxmlformats.org/officeDocument/2006/relationships/hyperlink" Target="https://vk.com/shkola_abv" TargetMode="External"/><Relationship Id="rId14" Type="http://schemas.openxmlformats.org/officeDocument/2006/relationships/hyperlink" Target="https://vk.com/shkola_abv" TargetMode="External"/><Relationship Id="rId15" Type="http://schemas.openxmlformats.org/officeDocument/2006/relationships/hyperlink" Target="https://vk.com/shkola_abv" TargetMode="External"/><Relationship Id="rId16" Type="http://schemas.openxmlformats.org/officeDocument/2006/relationships/hyperlink" Target="https://vk.com/shkola_abv" TargetMode="External"/><Relationship Id="rId17" Type="http://schemas.openxmlformats.org/officeDocument/2006/relationships/hyperlink" Target="https://vk.com/shkola_abv" TargetMode="External"/><Relationship Id="rId18" Type="http://schemas.openxmlformats.org/officeDocument/2006/relationships/hyperlink" Target="https://vk.com/shkola_abv" TargetMode="External"/><Relationship Id="rId1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Елена\Desktop\себе\мимоза\06a0e0371b850576d4fe6c7fcab60ef1.jpg"/>
          <p:cNvPicPr/>
          <p:nvPr/>
        </p:nvPicPr>
        <p:blipFill>
          <a:blip r:embed="rId1"/>
          <a:stretch/>
        </p:blipFill>
        <p:spPr>
          <a:xfrm>
            <a:off x="3924360" y="333360"/>
            <a:ext cx="4030560" cy="6170760"/>
          </a:xfrm>
          <a:prstGeom prst="rect">
            <a:avLst/>
          </a:prstGeom>
          <a:ln w="25560">
            <a:solidFill>
              <a:srgbClr val="c0504d"/>
            </a:solidFill>
            <a:miter/>
          </a:ln>
        </p:spPr>
      </p:pic>
      <p:sp>
        <p:nvSpPr>
          <p:cNvPr id="42" name="TextBox 5"/>
          <p:cNvSpPr/>
          <p:nvPr/>
        </p:nvSpPr>
        <p:spPr>
          <a:xfrm rot="16200000">
            <a:off x="713880" y="2780280"/>
            <a:ext cx="4419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00000"/>
                </a:solidFill>
                <a:latin typeface="Comic Sans MS"/>
              </a:rPr>
              <a:t>8 Марта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C:\Users\Елена\Desktop\себе\мимоза\39b097be8286f93a1cd0f7bc770f436a (1) — копия.jpg"/>
          <p:cNvPicPr/>
          <p:nvPr/>
        </p:nvPicPr>
        <p:blipFill>
          <a:blip r:embed="rId1"/>
          <a:stretch/>
        </p:blipFill>
        <p:spPr>
          <a:xfrm>
            <a:off x="1332000" y="189000"/>
            <a:ext cx="6267240" cy="64166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C:\Users\Елена\Desktop\себе\мимоза\79a94f6c21af883b5b3f2cef95d30d2b.jpg"/>
          <p:cNvPicPr/>
          <p:nvPr/>
        </p:nvPicPr>
        <p:blipFill>
          <a:blip r:embed="rId1"/>
          <a:stretch/>
        </p:blipFill>
        <p:spPr>
          <a:xfrm>
            <a:off x="0" y="523800"/>
            <a:ext cx="8964720" cy="63342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941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6" descr="Эмблема круг"/>
          <p:cNvPicPr/>
          <p:nvPr/>
        </p:nvPicPr>
        <p:blipFill>
          <a:blip r:embed="rId2"/>
          <a:stretch/>
        </p:blipFill>
        <p:spPr>
          <a:xfrm>
            <a:off x="7308720" y="1484280"/>
            <a:ext cx="770040" cy="755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6306120" y="188280"/>
            <a:ext cx="2691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99"/>
                </a:solidFill>
                <a:latin typeface="Arial"/>
                <a:ea typeface="Times New Roman"/>
              </a:rPr>
              <a:t>сайт «Школа АБВ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3"/>
              </a:rPr>
              <a:t>www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4"/>
              </a:rPr>
              <a:t>.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5"/>
              </a:rPr>
              <a:t>shkola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6"/>
              </a:rPr>
              <a:t>-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7"/>
              </a:rPr>
              <a:t>abv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8"/>
              </a:rPr>
              <a:t>.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9"/>
              </a:rPr>
              <a:t>r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10"/>
              </a:rPr>
              <a:t>https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11"/>
              </a:rPr>
              <a:t>://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12"/>
              </a:rPr>
              <a:t>vk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13"/>
              </a:rPr>
              <a:t>.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14"/>
              </a:rPr>
              <a:t>com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15"/>
              </a:rPr>
              <a:t>/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16"/>
              </a:rPr>
              <a:t>shkola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17"/>
              </a:rPr>
              <a:t>_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18"/>
              </a:rPr>
              <a:t>abv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6-02-23T07:03:50Z</dcterms:created>
  <dc:creator>Елена Берюхова</dc:creator>
  <dc:description/>
  <dc:language>en-US</dc:language>
  <cp:lastModifiedBy>Берюхов</cp:lastModifiedBy>
  <dcterms:modified xsi:type="dcterms:W3CDTF">2026-02-28T06:55:54Z</dcterms:modified>
  <cp:revision>2</cp:revision>
  <dc:subject/>
  <dc:title>Слайд 1</dc:title>
</cp:coreProperties>
</file>